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15.png" ContentType="image/png"/>
  <Override PartName="/ppt/media/image10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32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BC3703F-D6E4-41F0-8B7A-B1C2BC3D0E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F5A1B4-8D46-4CAE-9A88-37626ABE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B04E7A4-E76A-406D-91C2-CFF3AD021C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AE075C9-1EDE-47E8-8719-805CB6B6A6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38874B6-C489-4389-9673-3B3FA29D2A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0AAE6A1-19A1-42C4-A779-5FE3B1BF95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CECFBC-3D22-4254-89DC-E40C42E33C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3830E13-EF82-43D5-B902-3F1C408528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FACC441-88E3-44B9-AAB3-586F20805B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92164B4-B445-4B35-AB8E-F3D1EC3842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3AEDAA6-89D5-4ED8-AB2A-80B967857A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D353445-2B19-413A-B5D6-BB66449BFE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6E98A53-A65A-408B-BC12-23B8780047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1323FAA-BE14-4EFA-845F-B38F00522C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29055D6-9ABB-4194-B13F-EF66AFEF62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368945A-7D6C-4B04-B515-02E5ADC97B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2A39B9B-BE18-4D88-8BB4-D9BEDC15F9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7A0906B-0BAC-4298-AEE2-C286CB06B5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6B04DA-C651-4181-8B2A-94CB2CBA08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137FFB3-4F6A-485B-AADD-50BC37D2BF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E6D0913-BDBF-43D9-B157-82882A0469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613AB42-B5DC-44F5-B0B9-7C49EF81F8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D865402-C261-4CC0-932F-5249AB0ED5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46B7438-CAAF-4D32-9FC7-26BFFD7206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BA81EC9-F5A7-405D-8AC3-D6A86E9441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3F1F9B3-1D2A-4160-AC9B-592F1C47A1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D12B40E-F478-4B23-BD7D-09CDBE24CE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E306802-3EA0-4E06-8DFA-EB9C48EE17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3207D6B-5641-4D1A-B8CA-97E84C5457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DCEB176-EF03-45A1-BF37-F762911D9B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9E9E956-FDE3-47A4-A57C-CB4A9BF344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8B75CD7-3D7C-47BF-9373-9D16938002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28751FD-3871-4ABB-B1D5-DCFBA0DF2D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5CCFC13-02E6-4344-BDFE-26C1027678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AD0952C-0F70-4508-B0F8-3BEA88121E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CBC63AC-9A22-45BF-95B5-6250BE5B89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F8762BE-0CC3-4565-AEF7-5E8A764FCE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A36469C-77FD-48E4-B0FF-880510915D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7C332D2-FABF-4A03-A148-FA3140E84E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2028960" y="619200"/>
            <a:ext cx="2871720" cy="2154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C60DFA9-35FF-4D89-ACB6-ABEEFEEA47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6B37B62-EEC3-4BC4-88E6-D2FFC779C8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5DCF4BA-1D8F-41BC-BE20-88E11228EC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66569C7-4BB5-41C2-B1C1-B5DCC5CE77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13D279-DCB6-4E68-83C3-D8D3DDAF77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754ABF6-4F97-40D4-968D-0C80EE7AC4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683BD84-FCE8-4E62-A9EE-9F871F145A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7200015-E2ED-46BE-B217-BBFA95E9A1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10240" cy="35323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CE4350A-5292-4FF5-B729-4E0D186B67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6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AD0A349-BE2C-4274-863E-22961FC247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45D9E9E-119F-4DCE-A29B-CFA8ADE000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1231171-A04C-46A5-AD7D-DC0956C357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2BEF445-AD8C-47F7-BD3B-449DCFB6D2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D07-0D31-49B8-95DA-FB2C01549D6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CE0-2B9D-49C6-906D-16734A4D2ED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00A9-F2F8-49B4-9F4C-64FA28157CE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2E6-91A3-4718-87C7-7B3F03FB407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7A66-E084-4B16-AD47-9EE9E6C0F26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BDB-4936-466C-8CF0-B045879AF1B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2C89-3001-4716-BA43-C2238FB0045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0C7-1741-4DB2-BD32-1747108F09B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2E41-AC8D-4660-86CC-FCF47F174DA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9E0-3A87-4F0F-BF2D-2BFD621C4B6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908-3874-44EB-A104-5A595C44936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6177-2047-41A5-B28C-1A190DE881F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4BD0-3ACB-4A39-89A4-80BE919A928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AB7-CD8E-4D96-AF0F-37650F13DE4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F35-0F14-421A-9259-180B88199D5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DB69-2DF8-4B7E-BC76-232691DA309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Using PSP0 - </a:t>
            </a:r>
            <a:fld id="{59496F4C-B07D-4802-8600-EA4B184EE0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28880" y="1965240"/>
            <a:ext cx="634176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Tutorial: Using PSP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5223960" y="19573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c Process Flow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programs or those that are not well understood may require an iterative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example the design is completed in one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odules are identified during the design, modules A and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each module is separately coded, compiled, and t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uses the PSP0 phases and two cycles of code-compile-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4" descr="S9"/>
          <p:cNvPicPr/>
          <p:nvPr/>
        </p:nvPicPr>
        <p:blipFill>
          <a:blip r:embed="rId1"/>
          <a:stretch/>
        </p:blipFill>
        <p:spPr>
          <a:xfrm>
            <a:off x="4748040" y="1792440"/>
            <a:ext cx="3857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c Process Flow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an be more than two cycles and cycles can also include the design phase as in thi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each cycle is focused on producing part of the program, e.g. Module A, Module B, Modul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size is a key factor for determining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e of code is too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may be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classes, methods, procedures, or functions are probably the right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need to determine what works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8" descr="S10"/>
          <p:cNvPicPr/>
          <p:nvPr/>
        </p:nvPicPr>
        <p:blipFill>
          <a:blip r:embed="rId1"/>
          <a:stretch/>
        </p:blipFill>
        <p:spPr>
          <a:xfrm>
            <a:off x="4851360" y="1743120"/>
            <a:ext cx="38671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Scri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1"/>
          <a:srcRect l="2010" t="28210" r="4020" b="11059"/>
          <a:stretch/>
        </p:blipFill>
        <p:spPr>
          <a:xfrm>
            <a:off x="3684600" y="2637000"/>
            <a:ext cx="4835520" cy="30747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scripts provide “expert-level” guidance on how to use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0" y="2625480"/>
            <a:ext cx="258120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one or two page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escrib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992160" y="2932200"/>
            <a:ext cx="41292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7444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0 Script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78040" y="1562040"/>
            <a:ext cx="7764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:  Estimate the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:  Develop the product using your current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mortem:  Complete the project plan summary with the time spent and defects found and injected in each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88840" y="858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0 Script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5896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:  Design the program using your current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:  Implement the progra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:  Compile until defect-fr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:  Test the program and fix all defec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defects in the defect log and time per phase in the time lo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60400" y="858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rocess Scri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8600" y="1565280"/>
            <a:ext cx="7575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scripts guide you through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he entry criteria before starting a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the phase star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the phase steps and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defects as they are found and corr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he exit criteria before ending a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the phase en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6800" indent="-292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to the next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ce yourself to use this paradigm until it becomes a hab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Measures and 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– track time in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– record defects as they are found and fix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has four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Project Plan Summary – summarizes planned and actual time and defects by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Time Recording Log – used to recor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Defect Recording Log – used to record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Defect Type Standard – used to define standard defect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tudent Workbook provides support for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ic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class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lso provides support for post-course use of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ing the PSP Student Work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older to hold the contents of the student 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ntents of the CD to this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Assignments M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Cours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Data M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Scripts an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Student Work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 spreadsheet STUn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6" descr=""/>
          <p:cNvPicPr/>
          <p:nvPr/>
        </p:nvPicPr>
        <p:blipFill>
          <a:blip r:embed="rId1"/>
          <a:stretch/>
        </p:blipFill>
        <p:spPr>
          <a:xfrm>
            <a:off x="4708440" y="1627200"/>
            <a:ext cx="380052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in the Fol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Assignments MDB – a folder containing backup copy of assignment data used to submit assignments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Course Materials – a folder containing the lectures, assignment kits and tutorials for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Data MDB – a folder containing a backup database where you can save your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Scripts and Forms – a folder containing the PSP scripts and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 Student Workbook – the PSP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notes – release notes for the current version of the PSP student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spreadsheet STUn.xls – a spreadsheet for submitting student data to your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PSP0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PSP0 process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0 for program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the 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the PSP Student Workbook you will need Microsoft Access 2002, service pack 3 or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3" descr=""/>
          <p:cNvPicPr/>
          <p:nvPr/>
        </p:nvPicPr>
        <p:blipFill>
          <a:blip r:embed="rId1"/>
          <a:stretch/>
        </p:blipFill>
        <p:spPr>
          <a:xfrm>
            <a:off x="1284120" y="3035160"/>
            <a:ext cx="2401920" cy="1216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"/>
          <p:cNvPicPr/>
          <p:nvPr/>
        </p:nvPicPr>
        <p:blipFill>
          <a:blip r:embed="rId2"/>
          <a:stretch/>
        </p:blipFill>
        <p:spPr>
          <a:xfrm>
            <a:off x="4800600" y="1654200"/>
            <a:ext cx="3887640" cy="4648320"/>
          </a:xfrm>
          <a:prstGeom prst="rect">
            <a:avLst/>
          </a:prstGeom>
          <a:ln w="0">
            <a:noFill/>
          </a:ln>
        </p:spPr>
      </p:pic>
      <p:sp>
        <p:nvSpPr>
          <p:cNvPr id="511" name="Line 16"/>
          <p:cNvSpPr/>
          <p:nvPr/>
        </p:nvSpPr>
        <p:spPr>
          <a:xfrm flipH="1">
            <a:off x="2532240" y="2687760"/>
            <a:ext cx="936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8"/>
          <p:cNvGrpSpPr/>
          <p:nvPr/>
        </p:nvGrpSpPr>
        <p:grpSpPr>
          <a:xfrm>
            <a:off x="1812960" y="4405320"/>
            <a:ext cx="2803320" cy="1959120"/>
            <a:chOff x="1812960" y="4405320"/>
            <a:chExt cx="2803320" cy="1959120"/>
          </a:xfrm>
        </p:grpSpPr>
        <p:sp>
          <p:nvSpPr>
            <p:cNvPr id="513" name="Rectangle 15"/>
            <p:cNvSpPr/>
            <p:nvPr/>
          </p:nvSpPr>
          <p:spPr>
            <a:xfrm>
              <a:off x="1812960" y="4405320"/>
              <a:ext cx="2463840" cy="19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, open the PSP Student Workbook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n it opens you will see the Welcome For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7"/>
            <p:cNvSpPr/>
            <p:nvPr/>
          </p:nvSpPr>
          <p:spPr>
            <a:xfrm>
              <a:off x="4324320" y="577692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the 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lcome has three buttons near the bottom of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your data… is used to import data from a previous version of the workbook when upd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your profile… is used to update your student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projects… takes you to the ma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Continue to projects… to create your student profile and open the ma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4" descr=""/>
          <p:cNvPicPr/>
          <p:nvPr/>
        </p:nvPicPr>
        <p:blipFill>
          <a:blip r:embed="rId1"/>
          <a:stretch/>
        </p:blipFill>
        <p:spPr>
          <a:xfrm>
            <a:off x="4800600" y="1654200"/>
            <a:ext cx="3887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the Student Pro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rcRect l="0" t="10613" r="0" b="0"/>
          <a:stretch/>
        </p:blipFill>
        <p:spPr>
          <a:xfrm>
            <a:off x="4792680" y="1693800"/>
            <a:ext cx="3762360" cy="410544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your organization o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of the lead 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questions under each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Finish…the main PSP Student Workbook form will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tudent Work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SP student workbook main form provides acces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/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rcRect l="511" t="11084" r="3766" b="4708"/>
          <a:stretch/>
        </p:blipFill>
        <p:spPr>
          <a:xfrm>
            <a:off x="3578400" y="2736720"/>
            <a:ext cx="5190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Direc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n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project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7" descr=""/>
          <p:cNvPicPr/>
          <p:nvPr/>
        </p:nvPicPr>
        <p:blipFill>
          <a:blip r:embed="rId1"/>
          <a:stretch/>
        </p:blipFill>
        <p:spPr>
          <a:xfrm>
            <a:off x="4299120" y="1758960"/>
            <a:ext cx="4518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/Ex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17720" y="1650600"/>
            <a:ext cx="388296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is form to save and restore data and structure to the backup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also use this form to submit assignment data to your instructor using one of two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 data to the included STUn.XLS file and provide your instructor with a copy of this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n assignment submission file for use with the SEI blended learning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also use this form to import data when upgrading to a newer version of the PSP Student Workboo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9" descr=""/>
          <p:cNvPicPr/>
          <p:nvPr/>
        </p:nvPicPr>
        <p:blipFill>
          <a:blip r:embed="rId1"/>
          <a:stretch/>
        </p:blipFill>
        <p:spPr>
          <a:xfrm>
            <a:off x="5487840" y="1447920"/>
            <a:ext cx="2392560" cy="4647960"/>
          </a:xfrm>
          <a:prstGeom prst="rect">
            <a:avLst/>
          </a:prstGeom>
          <a:ln w="0">
            <a:noFill/>
          </a:ln>
        </p:spPr>
      </p:pic>
      <p:sp>
        <p:nvSpPr>
          <p:cNvPr id="530" name="Line 15"/>
          <p:cNvSpPr/>
          <p:nvPr/>
        </p:nvSpPr>
        <p:spPr>
          <a:xfrm>
            <a:off x="4805280" y="2017800"/>
            <a:ext cx="397080" cy="228600"/>
          </a:xfrm>
          <a:prstGeom prst="line">
            <a:avLst/>
          </a:prstGeom>
          <a:ln w="28440">
            <a:solidFill>
              <a:srgbClr val="0056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6"/>
          <p:cNvSpPr/>
          <p:nvPr/>
        </p:nvSpPr>
        <p:spPr>
          <a:xfrm>
            <a:off x="4889520" y="3836880"/>
            <a:ext cx="417600" cy="0"/>
          </a:xfrm>
          <a:prstGeom prst="line">
            <a:avLst/>
          </a:prstGeom>
          <a:ln w="28440">
            <a:solidFill>
              <a:srgbClr val="0056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7"/>
          <p:cNvSpPr/>
          <p:nvPr/>
        </p:nvSpPr>
        <p:spPr>
          <a:xfrm flipV="1">
            <a:off x="4844880" y="5322600"/>
            <a:ext cx="438480" cy="198360"/>
          </a:xfrm>
          <a:prstGeom prst="line">
            <a:avLst/>
          </a:prstGeom>
          <a:ln w="28440">
            <a:solidFill>
              <a:srgbClr val="0056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Direc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rcRect l="1457" t="7374" r="2614" b="7707"/>
          <a:stretch/>
        </p:blipFill>
        <p:spPr>
          <a:xfrm>
            <a:off x="3917880" y="1784520"/>
            <a:ext cx="459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siz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rcRect l="1878" t="7731" r="3803" b="5842"/>
          <a:stretch/>
        </p:blipFill>
        <p:spPr>
          <a:xfrm>
            <a:off x="4022640" y="1743120"/>
            <a:ext cx="44625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 analyze your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tool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program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ny of the 42 hyperlinks to open the corresponding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1"/>
          <a:srcRect l="2665" t="6784" r="4197" b="7284"/>
          <a:stretch/>
        </p:blipFill>
        <p:spPr>
          <a:xfrm>
            <a:off x="4024440" y="1716120"/>
            <a:ext cx="4508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s/Fo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 open the word document(s) containing the PSP scripts an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 hyperlink to open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"/>
          <p:cNvPicPr/>
          <p:nvPr/>
        </p:nvPicPr>
        <p:blipFill>
          <a:blip r:embed="rId1"/>
          <a:srcRect l="0" t="7284" r="3063" b="8733"/>
          <a:stretch/>
        </p:blipFill>
        <p:spPr>
          <a:xfrm>
            <a:off x="3844800" y="1760400"/>
            <a:ext cx="4638960" cy="31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You Beg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no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for writing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a process for learning about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’s the process equivalent of a code s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orks so well for some students that they can use it on the job, but that’s not its intended purp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you’ve completed the course you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your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your experience and P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ilor the PSP to meet your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ab to open the cours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a hyperlink to open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"/>
          <p:cNvPicPr/>
          <p:nvPr/>
        </p:nvPicPr>
        <p:blipFill>
          <a:blip r:embed="rId1"/>
          <a:srcRect l="1878" t="7284" r="3063" b="7231"/>
          <a:stretch/>
        </p:blipFill>
        <p:spPr>
          <a:xfrm>
            <a:off x="3954600" y="1746360"/>
            <a:ext cx="4529160" cy="32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 to the Project Director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eight assignments in the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ssignment is a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an assignment 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correspond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forms provided to pla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it using the time log and defect log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a postmortem when the project i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i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4761000" y="1758960"/>
            <a:ext cx="363060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 to the Project Director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ject directory display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check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urse assignment projects must be completed i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s of these projects should not be 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56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95"/>
                </a:solidFill>
                <a:latin typeface="Arial"/>
              </a:rPr>
              <a:t>Mark them complete only when you’re absolutely certain that you’ve entered all data correc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4730760" y="1819440"/>
            <a:ext cx="363060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ting Started: Opening a Pro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rst project, Progra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record se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 field in the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Open Project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5" descr=""/>
          <p:cNvPicPr/>
          <p:nvPr/>
        </p:nvPicPr>
        <p:blipFill>
          <a:blip r:embed="rId1"/>
          <a:srcRect l="0" t="7767" r="4199" b="32337"/>
          <a:stretch/>
        </p:blipFill>
        <p:spPr>
          <a:xfrm>
            <a:off x="4633920" y="1569960"/>
            <a:ext cx="3994200" cy="19684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7"/>
          <p:cNvSpPr/>
          <p:nvPr/>
        </p:nvSpPr>
        <p:spPr>
          <a:xfrm>
            <a:off x="4444920" y="3495600"/>
            <a:ext cx="1200240" cy="206280"/>
          </a:xfrm>
          <a:prstGeom prst="rect">
            <a:avLst/>
          </a:prstGeom>
          <a:solidFill>
            <a:srgbClr val="005694"/>
          </a:solidFill>
          <a:ln w="0">
            <a:noFill/>
          </a:ln>
          <a:effectLst>
            <a:outerShdw dist="153753" dir="2700000" blurRad="0" rotWithShape="0">
              <a:srgbClr val="0034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 se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AutoShape 22"/>
          <p:cNvCxnSpPr>
            <a:stCxn id="557" idx="1"/>
            <a:endCxn id="559" idx="0"/>
          </p:cNvCxnSpPr>
          <p:nvPr/>
        </p:nvCxnSpPr>
        <p:spPr>
          <a:xfrm flipH="1" rot="10800000">
            <a:off x="4443840" y="2615400"/>
            <a:ext cx="337320" cy="983520"/>
          </a:xfrm>
          <a:prstGeom prst="curvedConnector5">
            <a:avLst>
              <a:gd name="adj1" fmla="val -67841"/>
              <a:gd name="adj2" fmla="val 49981"/>
              <a:gd name="adj3" fmla="val -678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0" name="Rectangle 23"/>
          <p:cNvSpPr/>
          <p:nvPr/>
        </p:nvSpPr>
        <p:spPr>
          <a:xfrm>
            <a:off x="6248520" y="3438360"/>
            <a:ext cx="463320" cy="206640"/>
          </a:xfrm>
          <a:prstGeom prst="rect">
            <a:avLst/>
          </a:prstGeom>
          <a:solidFill>
            <a:srgbClr val="005694"/>
          </a:solidFill>
          <a:ln w="0">
            <a:noFill/>
          </a:ln>
          <a:effectLst>
            <a:outerShdw dist="153753" dir="2700000" blurRad="0" rotWithShape="0">
              <a:srgbClr val="0034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AutoShape 25"/>
          <p:cNvCxnSpPr>
            <a:stCxn id="560" idx="1"/>
            <a:endCxn id="562" idx="0"/>
          </p:cNvCxnSpPr>
          <p:nvPr/>
        </p:nvCxnSpPr>
        <p:spPr>
          <a:xfrm rot="10800000">
            <a:off x="5123880" y="2748960"/>
            <a:ext cx="1124640" cy="792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AutoShape 29"/>
          <p:cNvSpPr/>
          <p:nvPr/>
        </p:nvSpPr>
        <p:spPr>
          <a:xfrm>
            <a:off x="4781520" y="2571840"/>
            <a:ext cx="88920" cy="8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5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0"/>
          <p:cNvSpPr/>
          <p:nvPr/>
        </p:nvSpPr>
        <p:spPr>
          <a:xfrm>
            <a:off x="5079960" y="2660760"/>
            <a:ext cx="88920" cy="88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5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1"/>
          <p:cNvSpPr/>
          <p:nvPr/>
        </p:nvSpPr>
        <p:spPr>
          <a:xfrm>
            <a:off x="7446960" y="3425760"/>
            <a:ext cx="1012680" cy="206280"/>
          </a:xfrm>
          <a:prstGeom prst="rect">
            <a:avLst/>
          </a:prstGeom>
          <a:solidFill>
            <a:srgbClr val="005694"/>
          </a:solidFill>
          <a:ln w="0">
            <a:noFill/>
          </a:ln>
          <a:effectLst>
            <a:outerShdw dist="153753" dir="2700000" blurRad="0" rotWithShape="0">
              <a:srgbClr val="0034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2"/>
          <p:cNvSpPr/>
          <p:nvPr/>
        </p:nvSpPr>
        <p:spPr>
          <a:xfrm>
            <a:off x="6378480" y="2422440"/>
            <a:ext cx="88920" cy="88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5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33"/>
          <p:cNvCxnSpPr>
            <a:stCxn id="563" idx="1"/>
            <a:endCxn id="564" idx="0"/>
          </p:cNvCxnSpPr>
          <p:nvPr/>
        </p:nvCxnSpPr>
        <p:spPr>
          <a:xfrm rot="10800000">
            <a:off x="6422400" y="2510640"/>
            <a:ext cx="1024560" cy="10184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Rectangle 34"/>
          <p:cNvSpPr/>
          <p:nvPr/>
        </p:nvSpPr>
        <p:spPr>
          <a:xfrm>
            <a:off x="1022400" y="3857760"/>
            <a:ext cx="363060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I Facts and Short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next field in form…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ior field in form… &lt;shift&gt;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next subform within a form… &lt;ctrl&gt;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ior subform within a form… &lt;ctrl&gt;&lt;shift&gt;&lt;tab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field contents when selected… &lt;de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o delete field… &lt;es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current date…&lt;ctrl&gt;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current time… &lt;ctrl&gt;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copy of field from same field in previous record… &lt;ctrl&gt;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29760" indent="-21744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"/>
          <p:cNvSpPr/>
          <p:nvPr/>
        </p:nvSpPr>
        <p:spPr>
          <a:xfrm>
            <a:off x="4941720" y="3857760"/>
            <a:ext cx="3630960" cy="25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I Facts and Short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record… click record selector and &lt;del&gt; or use provided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ed record… an arrow in the record se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ing record or starting new record… a pencil in the record se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o edit or new record… hit esc until pencil dis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ing a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4799160" y="1677960"/>
            <a:ext cx="3630600" cy="25430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SP uses historical data as an aid to planning, you will learn more about this during th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data are data from completed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open a project, a summary snapshot of this data is created and stored with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data on earlier projects will not affect a later project after it has been ope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513040" y="4352760"/>
            <a:ext cx="363060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: The Replan Project button will recalculate the historical data for the selected project using data from all projects that were completed before the selected project star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V="1">
            <a:off x="6572160" y="2502000"/>
            <a:ext cx="160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Form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1"/>
          <a:srcRect l="2405" t="11819" r="47330" b="14339"/>
          <a:stretch/>
        </p:blipFill>
        <p:spPr>
          <a:xfrm>
            <a:off x="4305240" y="1521000"/>
            <a:ext cx="4378320" cy="482436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-360" y="1709280"/>
            <a:ext cx="314172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PSP0 Project Plan Summ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pen the other PSP0 forms click PSP0 Forms… on the PSP0 me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5" descr=""/>
          <p:cNvPicPr/>
          <p:nvPr/>
        </p:nvPicPr>
        <p:blipFill>
          <a:blip r:embed="rId2"/>
          <a:srcRect l="38490" t="25107" r="48189" b="63610"/>
          <a:stretch/>
        </p:blipFill>
        <p:spPr>
          <a:xfrm>
            <a:off x="1233360" y="3441600"/>
            <a:ext cx="2370240" cy="15066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6"/>
          <p:cNvSpPr/>
          <p:nvPr/>
        </p:nvSpPr>
        <p:spPr>
          <a:xfrm>
            <a:off x="1047600" y="5108400"/>
            <a:ext cx="298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orm to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 Typ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Form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1"/>
          <a:stretch/>
        </p:blipFill>
        <p:spPr>
          <a:xfrm>
            <a:off x="1049400" y="1600200"/>
            <a:ext cx="3630600" cy="3355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2"/>
          <a:stretch/>
        </p:blipFill>
        <p:spPr>
          <a:xfrm>
            <a:off x="5419800" y="1709640"/>
            <a:ext cx="2392200" cy="2219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"/>
          <p:cNvPicPr/>
          <p:nvPr/>
        </p:nvPicPr>
        <p:blipFill>
          <a:blip r:embed="rId3"/>
          <a:stretch/>
        </p:blipFill>
        <p:spPr>
          <a:xfrm>
            <a:off x="3029040" y="3249720"/>
            <a:ext cx="33480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Time Recording Lo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1"/>
          <a:srcRect l="0" t="14249" r="570" b="54088"/>
          <a:stretch/>
        </p:blipFill>
        <p:spPr>
          <a:xfrm>
            <a:off x="1117440" y="3927600"/>
            <a:ext cx="7334280" cy="22510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30160" y="1709280"/>
            <a:ext cx="7413480" cy="2027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: Select the phase on which you were wo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: Enter the date and time you started working. Double click to enter the current date and time or type &lt;ctrl&gt;;&lt;space&gt;&lt;ctrl&gt;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.: Enter any interruption time in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Time Recording Lo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50120" cy="3378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: Enter the date and time you stop working. Double click to enter the current date an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ta Time: The delta time is calculated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:  Use to describe any interruption, the task you were doing or anything else that significantly affects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6" descr=""/>
          <p:cNvPicPr/>
          <p:nvPr/>
        </p:nvPicPr>
        <p:blipFill>
          <a:blip r:embed="rId1"/>
          <a:srcRect l="0" t="13657" r="570" b="54359"/>
          <a:stretch/>
        </p:blipFill>
        <p:spPr>
          <a:xfrm>
            <a:off x="1120680" y="4157640"/>
            <a:ext cx="726624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cording Lo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rcRect l="571" t="16949" r="2845" b="51511"/>
          <a:stretch/>
        </p:blipFill>
        <p:spPr>
          <a:xfrm>
            <a:off x="1139760" y="4243320"/>
            <a:ext cx="6961320" cy="22734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:  Select the def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: Enter the date the defect was found. Double-click to enter the current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jected:  Select or enter the phase during which you judge the defect was inj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Removed:  Enter the phase during which you found and fixed the de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ces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 is a simple, defined, personal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your current design and development methods to produce a small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time and defect data o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summary repo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cording Lo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rcRect l="571" t="16949" r="2845" b="51511"/>
          <a:stretch/>
        </p:blipFill>
        <p:spPr>
          <a:xfrm>
            <a:off x="1139760" y="4243320"/>
            <a:ext cx="6961320" cy="22734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time:  Enter the time that you took both to find and fix the defect.  You may time it exactly, or use your best jud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defect:  If this defect was injected while fixing another defect, enter the number of that de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:  Enter explanation of what the defect was (not the symptom, but the defect!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Type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1"/>
          <a:srcRect l="0" t="6098" r="0" b="71631"/>
          <a:stretch/>
        </p:blipFill>
        <p:spPr>
          <a:xfrm>
            <a:off x="1015920" y="3984480"/>
            <a:ext cx="7283520" cy="221796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ect type standard provides a general set of defect catego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you may add items or replace this standard with your own, it is generally wise to stick with these simple definitions until you have data to guide your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838080" y="55627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87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3193920" cy="887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best estimate of the total time that the developmen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9" descr=""/>
          <p:cNvPicPr/>
          <p:nvPr/>
        </p:nvPicPr>
        <p:blipFill>
          <a:blip r:embed="rId1"/>
          <a:srcRect l="0" t="10853" r="9551" b="4288"/>
          <a:stretch/>
        </p:blipFill>
        <p:spPr>
          <a:xfrm>
            <a:off x="4417920" y="1652760"/>
            <a:ext cx="4029120" cy="4811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3" descr=""/>
          <p:cNvPicPr/>
          <p:nvPr/>
        </p:nvPicPr>
        <p:blipFill>
          <a:blip r:embed="rId2"/>
          <a:srcRect l="3975" t="46697" r="68124" b="50489"/>
          <a:stretch/>
        </p:blipFill>
        <p:spPr>
          <a:xfrm>
            <a:off x="1100160" y="2724120"/>
            <a:ext cx="3046320" cy="3920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4"/>
          <p:cNvSpPr/>
          <p:nvPr/>
        </p:nvSpPr>
        <p:spPr>
          <a:xfrm>
            <a:off x="1096920" y="3340080"/>
            <a:ext cx="312120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aining items are calcul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cts injected and removed i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ate %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lan Summary Up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ith version 20061007, all fields that the student enters data in are formatted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1"/>
          <a:srcRect l="4747" t="47352" r="42304" b="15388"/>
          <a:stretch/>
        </p:blipFill>
        <p:spPr>
          <a:xfrm>
            <a:off x="5114880" y="1743120"/>
            <a:ext cx="3328920" cy="1806480"/>
          </a:xfrm>
          <a:prstGeom prst="rect">
            <a:avLst/>
          </a:prstGeom>
          <a:ln w="0">
            <a:noFill/>
          </a:ln>
        </p:spPr>
      </p:pic>
      <p:sp>
        <p:nvSpPr>
          <p:cNvPr id="606" name="Line 8"/>
          <p:cNvSpPr/>
          <p:nvPr/>
        </p:nvSpPr>
        <p:spPr>
          <a:xfrm>
            <a:off x="4692600" y="2481120"/>
            <a:ext cx="1727280" cy="82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a PSP Project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2" descr=""/>
          <p:cNvPicPr/>
          <p:nvPr/>
        </p:nvPicPr>
        <p:blipFill>
          <a:blip r:embed="rId1"/>
          <a:srcRect l="0" t="7451" r="3368" b="45714"/>
          <a:stretch/>
        </p:blipFill>
        <p:spPr>
          <a:xfrm>
            <a:off x="914400" y="3201840"/>
            <a:ext cx="7405560" cy="282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7301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project, e.g. Assignme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date in the completed fields or click the completed checkbox to enter today’s 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a PSP Project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otes on completing a projec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ject’s plan is based on historical data from prior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roject is first opened, it takes a snapshot of the current historical data for use in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se data are in error, the plan will be i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limited data available in the course, projects are prevented from being opened until the prior project is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still do your part and make sure that the project data are complete and self-consistent before marking a project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’re not sure that your data are right, don’t guess…check the text or ask an instru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ommon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are common errors students m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tracking time in planning and postmor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pping phases or executing phases out of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itting some defects found in compile or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getting to record the measured actual size of programs developed (PSP1.x and abo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ing phases with activity, e.g. counting time spent re-designing or re-coding during test as design time or coding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xt few slides address some specific problems with time and defect trac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Fix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fix time is often misunderst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the time taken both to find and fix the def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05    run compiler on p1a.c, “line 23 - type mismatc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06    run editor on p1a.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5    change declaration on line 6 from integer to 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6    run compiler on p1a.c, “no erro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: What is the defect fix tim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: 10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hase Inj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jected phase for a defect depends on the phase the program is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finds a major logic error in his program during test. He has to redesign and code part of his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What phase is Tom’s program 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m finds a defect in the new code he has writ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In what PSP phase was the defect inject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3" descr="S32"/>
          <p:cNvPicPr/>
          <p:nvPr/>
        </p:nvPicPr>
        <p:blipFill>
          <a:blip r:embed="rId1"/>
          <a:stretch/>
        </p:blipFill>
        <p:spPr>
          <a:xfrm>
            <a:off x="5162400" y="1697040"/>
            <a:ext cx="3027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surement in the Cyclic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a program part identifier in the notes field on time log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similar annotation to defect log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“Test” as the phase removed when defects are found in a previously tested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finds and fixes an interface error in part A of his program while coding part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: In what PSP phase was this defect rem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2" descr="S33"/>
          <p:cNvPicPr/>
          <p:nvPr/>
        </p:nvPicPr>
        <p:blipFill>
          <a:blip r:embed="rId1"/>
          <a:stretch/>
        </p:blipFill>
        <p:spPr>
          <a:xfrm>
            <a:off x="4843440" y="1801800"/>
            <a:ext cx="3857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Obj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for PSP0 i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basic measurements in the software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 minimal changes to your person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H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and record data on your process as you work, not afterwards.  If you forget, promptly make your best gu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cise and accur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time in min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every def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be using your own data to manage your process; gather data that is worthy of your tr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sing PSP0, your principal objective is to learn to gather and report accurate and complete data on your work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n, make your best effort to follow the PSP process scripts and instru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cess Phas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0 has six ph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– produces a plan for developing the program defined by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– produces a design specification for the program defined by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– transforms the design specification into programming language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4" descr="S5"/>
          <p:cNvPicPr/>
          <p:nvPr/>
        </p:nvPicPr>
        <p:blipFill>
          <a:blip r:embed="rId1"/>
          <a:stretch/>
        </p:blipFill>
        <p:spPr>
          <a:xfrm>
            <a:off x="6067440" y="2454120"/>
            <a:ext cx="952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 Process Phas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– translates the programming language statements into executabl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– verifies that the executable code satisfies th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mortem – summarizes and analyzes the project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6" descr="S6"/>
          <p:cNvPicPr/>
          <p:nvPr/>
        </p:nvPicPr>
        <p:blipFill>
          <a:blip r:embed="rId1"/>
          <a:stretch/>
        </p:blipFill>
        <p:spPr>
          <a:xfrm>
            <a:off x="6210360" y="1886040"/>
            <a:ext cx="1409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SP looks like a waterfall process but it’s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ase order is determined by the dependencies betwe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’t test the code before it’s compi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’t compile the code before it’s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’t use the design if it’s produced after the code is 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’s no reason to make a plan after you’re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…start here with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7"/>
          <p:cNvSpPr/>
          <p:nvPr/>
        </p:nvSpPr>
        <p:spPr>
          <a:xfrm>
            <a:off x="5187960" y="1793880"/>
            <a:ext cx="24606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31"/>
          <p:cNvGrpSpPr/>
          <p:nvPr/>
        </p:nvGrpSpPr>
        <p:grpSpPr>
          <a:xfrm>
            <a:off x="6707160" y="5324400"/>
            <a:ext cx="914400" cy="457200"/>
            <a:chOff x="6707160" y="5324400"/>
            <a:chExt cx="914400" cy="457200"/>
          </a:xfrm>
        </p:grpSpPr>
        <p:sp>
          <p:nvSpPr>
            <p:cNvPr id="454" name="Freeform 29"/>
            <p:cNvSpPr/>
            <p:nvPr/>
          </p:nvSpPr>
          <p:spPr>
            <a:xfrm>
              <a:off x="6707160" y="53244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2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2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6707160" y="53244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2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2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Rectangle 32"/>
          <p:cNvSpPr/>
          <p:nvPr/>
        </p:nvSpPr>
        <p:spPr>
          <a:xfrm>
            <a:off x="6950160" y="543240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5"/>
          <p:cNvGrpSpPr/>
          <p:nvPr/>
        </p:nvGrpSpPr>
        <p:grpSpPr>
          <a:xfrm>
            <a:off x="6708600" y="4443480"/>
            <a:ext cx="914400" cy="457200"/>
            <a:chOff x="6708600" y="4443480"/>
            <a:chExt cx="914400" cy="457200"/>
          </a:xfrm>
        </p:grpSpPr>
        <p:sp>
          <p:nvSpPr>
            <p:cNvPr id="458" name="Freeform 33"/>
            <p:cNvSpPr/>
            <p:nvPr/>
          </p:nvSpPr>
          <p:spPr>
            <a:xfrm>
              <a:off x="6708600" y="4443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6708600" y="4443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36"/>
          <p:cNvSpPr/>
          <p:nvPr/>
        </p:nvSpPr>
        <p:spPr>
          <a:xfrm>
            <a:off x="6828120" y="4551480"/>
            <a:ext cx="7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39"/>
          <p:cNvGrpSpPr/>
          <p:nvPr/>
        </p:nvGrpSpPr>
        <p:grpSpPr>
          <a:xfrm>
            <a:off x="6707160" y="3564000"/>
            <a:ext cx="914400" cy="457200"/>
            <a:chOff x="6707160" y="3564000"/>
            <a:chExt cx="914400" cy="457200"/>
          </a:xfrm>
        </p:grpSpPr>
        <p:sp>
          <p:nvSpPr>
            <p:cNvPr id="462" name="Freeform 37"/>
            <p:cNvSpPr/>
            <p:nvPr/>
          </p:nvSpPr>
          <p:spPr>
            <a:xfrm>
              <a:off x="6707160" y="35640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8"/>
            <p:cNvSpPr/>
            <p:nvPr/>
          </p:nvSpPr>
          <p:spPr>
            <a:xfrm>
              <a:off x="6707160" y="35640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40"/>
          <p:cNvSpPr/>
          <p:nvPr/>
        </p:nvSpPr>
        <p:spPr>
          <a:xfrm>
            <a:off x="6910560" y="3670200"/>
            <a:ext cx="57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43"/>
          <p:cNvGrpSpPr/>
          <p:nvPr/>
        </p:nvGrpSpPr>
        <p:grpSpPr>
          <a:xfrm>
            <a:off x="6708600" y="2684520"/>
            <a:ext cx="914400" cy="457200"/>
            <a:chOff x="6708600" y="2684520"/>
            <a:chExt cx="914400" cy="457200"/>
          </a:xfrm>
        </p:grpSpPr>
        <p:sp>
          <p:nvSpPr>
            <p:cNvPr id="466" name="Freeform 41"/>
            <p:cNvSpPr/>
            <p:nvPr/>
          </p:nvSpPr>
          <p:spPr>
            <a:xfrm>
              <a:off x="6708600" y="268452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8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8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2"/>
            <p:cNvSpPr/>
            <p:nvPr/>
          </p:nvSpPr>
          <p:spPr>
            <a:xfrm>
              <a:off x="6708600" y="268452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8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8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Rectangle 44"/>
          <p:cNvSpPr/>
          <p:nvPr/>
        </p:nvSpPr>
        <p:spPr>
          <a:xfrm>
            <a:off x="6767280" y="2792520"/>
            <a:ext cx="87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7"/>
          <p:cNvGrpSpPr/>
          <p:nvPr/>
        </p:nvGrpSpPr>
        <p:grpSpPr>
          <a:xfrm>
            <a:off x="6708600" y="1806480"/>
            <a:ext cx="914400" cy="457200"/>
            <a:chOff x="6708600" y="1806480"/>
            <a:chExt cx="914400" cy="457200"/>
          </a:xfrm>
        </p:grpSpPr>
        <p:sp>
          <p:nvSpPr>
            <p:cNvPr id="470" name="Freeform 45"/>
            <p:cNvSpPr/>
            <p:nvPr/>
          </p:nvSpPr>
          <p:spPr>
            <a:xfrm>
              <a:off x="6708600" y="1806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6"/>
            <p:cNvSpPr/>
            <p:nvPr/>
          </p:nvSpPr>
          <p:spPr>
            <a:xfrm>
              <a:off x="6708600" y="1806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48"/>
          <p:cNvSpPr/>
          <p:nvPr/>
        </p:nvSpPr>
        <p:spPr>
          <a:xfrm>
            <a:off x="6956640" y="1913040"/>
            <a:ext cx="48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49"/>
          <p:cNvSpPr/>
          <p:nvPr/>
        </p:nvSpPr>
        <p:spPr>
          <a:xfrm>
            <a:off x="7128000" y="4913280"/>
            <a:ext cx="75960" cy="405000"/>
          </a:xfrm>
          <a:custGeom>
            <a:avLst/>
            <a:gdLst/>
            <a:ahLst/>
            <a:rect l="l" t="t" r="r" b="b"/>
            <a:pathLst>
              <a:path w="200" h="1063">
                <a:moveTo>
                  <a:pt x="80" y="1046"/>
                </a:moveTo>
                <a:lnTo>
                  <a:pt x="83" y="167"/>
                </a:lnTo>
                <a:cubicBezTo>
                  <a:pt x="84" y="158"/>
                  <a:pt x="91" y="150"/>
                  <a:pt x="100" y="150"/>
                </a:cubicBezTo>
                <a:cubicBezTo>
                  <a:pt x="109" y="151"/>
                  <a:pt x="117" y="158"/>
                  <a:pt x="117" y="167"/>
                </a:cubicBezTo>
                <a:lnTo>
                  <a:pt x="113" y="1046"/>
                </a:lnTo>
                <a:cubicBezTo>
                  <a:pt x="113" y="1056"/>
                  <a:pt x="106" y="1063"/>
                  <a:pt x="97" y="1063"/>
                </a:cubicBezTo>
                <a:cubicBezTo>
                  <a:pt x="87" y="1063"/>
                  <a:pt x="80" y="1055"/>
                  <a:pt x="80" y="1046"/>
                </a:cubicBezTo>
                <a:close/>
                <a:moveTo>
                  <a:pt x="0" y="200"/>
                </a:moveTo>
                <a:lnTo>
                  <a:pt x="101" y="0"/>
                </a:lnTo>
                <a:lnTo>
                  <a:pt x="200" y="201"/>
                </a:lnTo>
                <a:lnTo>
                  <a:pt x="0" y="200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50"/>
          <p:cNvSpPr/>
          <p:nvPr/>
        </p:nvSpPr>
        <p:spPr>
          <a:xfrm>
            <a:off x="7126200" y="4033800"/>
            <a:ext cx="76320" cy="403200"/>
          </a:xfrm>
          <a:custGeom>
            <a:avLst/>
            <a:gdLst/>
            <a:ahLst/>
            <a:rect l="l" t="t" r="r" b="b"/>
            <a:pathLst>
              <a:path w="200" h="1059">
                <a:moveTo>
                  <a:pt x="87" y="1042"/>
                </a:moveTo>
                <a:lnTo>
                  <a:pt x="84" y="167"/>
                </a:lnTo>
                <a:cubicBezTo>
                  <a:pt x="84" y="158"/>
                  <a:pt x="91" y="150"/>
                  <a:pt x="100" y="150"/>
                </a:cubicBezTo>
                <a:cubicBezTo>
                  <a:pt x="109" y="150"/>
                  <a:pt x="117" y="158"/>
                  <a:pt x="117" y="167"/>
                </a:cubicBezTo>
                <a:lnTo>
                  <a:pt x="120" y="1042"/>
                </a:lnTo>
                <a:cubicBezTo>
                  <a:pt x="121" y="1051"/>
                  <a:pt x="113" y="1058"/>
                  <a:pt x="104" y="1058"/>
                </a:cubicBezTo>
                <a:cubicBezTo>
                  <a:pt x="95" y="1059"/>
                  <a:pt x="87" y="1051"/>
                  <a:pt x="87" y="1042"/>
                </a:cubicBezTo>
                <a:close/>
                <a:moveTo>
                  <a:pt x="0" y="201"/>
                </a:moveTo>
                <a:lnTo>
                  <a:pt x="100" y="0"/>
                </a:lnTo>
                <a:lnTo>
                  <a:pt x="200" y="200"/>
                </a:lnTo>
                <a:lnTo>
                  <a:pt x="0" y="201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7128000" y="3156120"/>
            <a:ext cx="75960" cy="401400"/>
          </a:xfrm>
          <a:custGeom>
            <a:avLst/>
            <a:gdLst/>
            <a:ahLst/>
            <a:rect l="l" t="t" r="r" b="b"/>
            <a:pathLst>
              <a:path w="200" h="1058">
                <a:moveTo>
                  <a:pt x="80" y="1041"/>
                </a:moveTo>
                <a:lnTo>
                  <a:pt x="83" y="166"/>
                </a:lnTo>
                <a:cubicBezTo>
                  <a:pt x="84" y="157"/>
                  <a:pt x="91" y="150"/>
                  <a:pt x="100" y="150"/>
                </a:cubicBezTo>
                <a:cubicBezTo>
                  <a:pt x="109" y="150"/>
                  <a:pt x="117" y="157"/>
                  <a:pt x="117" y="167"/>
                </a:cubicBezTo>
                <a:lnTo>
                  <a:pt x="113" y="1042"/>
                </a:lnTo>
                <a:cubicBezTo>
                  <a:pt x="113" y="1051"/>
                  <a:pt x="106" y="1058"/>
                  <a:pt x="97" y="1058"/>
                </a:cubicBezTo>
                <a:cubicBezTo>
                  <a:pt x="87" y="1058"/>
                  <a:pt x="80" y="1051"/>
                  <a:pt x="80" y="1041"/>
                </a:cubicBezTo>
                <a:close/>
                <a:moveTo>
                  <a:pt x="0" y="199"/>
                </a:moveTo>
                <a:lnTo>
                  <a:pt x="101" y="0"/>
                </a:lnTo>
                <a:lnTo>
                  <a:pt x="200" y="200"/>
                </a:lnTo>
                <a:lnTo>
                  <a:pt x="0" y="199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7128000" y="2274840"/>
            <a:ext cx="75960" cy="405000"/>
          </a:xfrm>
          <a:custGeom>
            <a:avLst/>
            <a:gdLst/>
            <a:ahLst/>
            <a:rect l="l" t="t" r="r" b="b"/>
            <a:pathLst>
              <a:path w="200" h="1059">
                <a:moveTo>
                  <a:pt x="83" y="1042"/>
                </a:moveTo>
                <a:lnTo>
                  <a:pt x="83" y="167"/>
                </a:lnTo>
                <a:cubicBezTo>
                  <a:pt x="83" y="158"/>
                  <a:pt x="91" y="150"/>
                  <a:pt x="100" y="150"/>
                </a:cubicBezTo>
                <a:cubicBezTo>
                  <a:pt x="109" y="150"/>
                  <a:pt x="116" y="158"/>
                  <a:pt x="116" y="167"/>
                </a:cubicBezTo>
                <a:lnTo>
                  <a:pt x="116" y="1042"/>
                </a:lnTo>
                <a:cubicBezTo>
                  <a:pt x="116" y="1051"/>
                  <a:pt x="109" y="1059"/>
                  <a:pt x="100" y="1059"/>
                </a:cubicBezTo>
                <a:cubicBezTo>
                  <a:pt x="91" y="1059"/>
                  <a:pt x="83" y="1051"/>
                  <a:pt x="83" y="1042"/>
                </a:cubicBezTo>
                <a:close/>
                <a:moveTo>
                  <a:pt x="0" y="200"/>
                </a:moveTo>
                <a:lnTo>
                  <a:pt x="100" y="0"/>
                </a:lnTo>
                <a:lnTo>
                  <a:pt x="200" y="200"/>
                </a:lnTo>
                <a:lnTo>
                  <a:pt x="0" y="200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56"/>
          <p:cNvSpPr/>
          <p:nvPr/>
        </p:nvSpPr>
        <p:spPr>
          <a:xfrm flipV="1">
            <a:off x="4538520" y="5564160"/>
            <a:ext cx="207972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grams are small or well understood, you can execute the phases i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ll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all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 the coded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 the project data during the postmor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6" descr="S8"/>
          <p:cNvPicPr/>
          <p:nvPr/>
        </p:nvPicPr>
        <p:blipFill>
          <a:blip r:embed="rId1"/>
          <a:stretch/>
        </p:blipFill>
        <p:spPr>
          <a:xfrm>
            <a:off x="5141880" y="1779480"/>
            <a:ext cx="3127320" cy="432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6Z</dcterms:modified>
  <cp:revision>164</cp:revision>
  <dc:subject/>
  <dc:title>No Slide Title</dc:title>
</cp:coreProperties>
</file>